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C5E-5803-4281-8B0B-D5E59CE6E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FFDA-F82F-4C2C-B777-C9A702CEEC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4DB-5059-48E2-9D00-96B568E00B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51F-79AD-464B-8861-66B0432753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6F39-67B5-4B73-A98E-A0E04A3BA3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435-0425-4258-BDC9-D0E0B4DABB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7247-3E46-44EE-9B92-8879CCC69E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D7FF-47A3-4DB9-BAE8-407DFE076F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DFE-23AD-4C77-BF62-49BB2E4274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E1D-61F9-4382-BC3C-C27D3E1F08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6C0-F74A-4D22-8A3A-27F15A59F8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406-43FD-4D24-B36C-E3399F5EFF5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0B58-AED0-48B3-A581-C69C22B9F2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007-358A-4D70-804F-2D3CCC4535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B91-2A57-4E0A-AC4B-AC1A214AA3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E3D-B0C4-486A-B531-41F43B6E92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0690-A0D1-483A-BAD7-5D37E7D765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5496-B0F3-4FA3-8FF8-0659943BFA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041-4184-46E0-BF21-90E08C1F85F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7827-6237-4864-A94A-63A8C5103F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317E-DC40-4C21-A886-963269A02E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1A2C-5FAC-4E2A-8768-C049A4CDC2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88D-D413-4C7F-B132-E776D67E92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CB33-803B-47F4-A899-C211F20C3D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C11-9FD4-4435-8D57-16A1F1951D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A61C-A9B2-449C-8F77-1E4229A858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CB27-C086-4FDF-ADF3-0CEA7B2057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44AF-9143-46DE-9C43-EC18E9BB7C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0A3-18B2-45ED-A4AA-6B6F0F9D35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2BB8-F5BA-4500-B696-6DF9000813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263-0766-40C7-9B90-7CCE6FF242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2C75-01A2-4CAC-809C-939A0032A8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2C5-95BB-413D-82AF-9FB0813E8B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4D15-BA73-4F7C-94C7-8F96CA6204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115F-9C57-4B58-B9C8-C37823B196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01C8-C0EE-4A2A-A20F-37968F32F4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32D-8568-4F3A-B2A6-887F0D28D9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DB9F-EF97-471A-903B-F8F5525712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B9E-8C58-416B-A280-DACB6F9082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1CE-66F4-4F25-83B5-39F47C02D9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F87-815B-48E7-B265-352EC6DAC6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50BC-05F7-4BB4-83CC-00A397CF8B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498-C994-4BB0-8741-CD0525FD8D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486F-A013-47C7-89B9-D6866983A3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9FD-0696-4A1D-8389-8847075D17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B5B-575E-4BD5-8B98-0BB0D81F15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BDA-89DA-431B-BEEC-1384C6E79D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598-58AB-4EE5-B7BC-DD4522C30A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352-7293-4B03-9091-13B654195C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78E-7F51-4031-9DDA-DD0096C280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04B6-9E02-406F-A7A5-80A7313C72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F2E-D073-4E9B-935A-642E6D7CDF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A0C0-2B8F-427E-AF2B-693288B3BD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016-F93B-4127-BFFC-2BA17FAC9C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4F6-9291-4665-8DD6-B9DB826E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59C-7FDB-467F-83F2-71F5564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C0D-9111-4DA7-B8C5-C0B1340C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07F-6AEB-4C83-A114-7BFFB95B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AB5-8318-4A89-8E63-D90BCD5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5AF-90F1-4DBA-B9CC-4DAA31C6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F59-CD39-4284-A4AF-6EAAED5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76D-8AB3-4BE7-A0DA-E096CD6E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0CD-C0DB-4C95-A25F-6CDE15A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940-CC25-4CC9-BC9F-0F60085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956-B42E-41A5-9467-B87C6188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506-5783-42D8-ACAB-07D64A3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CEC-65C5-4CC4-9C1D-098C043E1EE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9-11-06T10:04:15Z</dcterms:modified>
  <cp:revision>115</cp:revision>
  <dc:subject/>
  <dc:title>Aims and Objectives</dc:title>
</cp:coreProperties>
</file>